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377F-9ACB-41F5-BA2C-21D6A9D3D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7DEE-25EB-4BB9-83D2-A65E11F78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16D-858D-4777-B9BB-1291A548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71E-3A4E-42CB-BA84-EF30B898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FB6-7DBA-4944-97CD-645A50F3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A80-F041-4FBF-B474-598888D0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E4B-D33F-4461-A95A-E381A198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C59D-F3D6-4E1F-A074-973BCE1E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D91-F522-49B8-9303-6AD3D097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034-E623-46A2-8B8D-A909AD34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4C8-ED0D-445D-BF34-7D1BA075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52A-AC10-40A3-AC25-DC823784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064-973D-4DF8-9D9C-D82FBBA7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884-85AF-4FEB-85EB-1B2E6160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1F8D-F332-4EF6-8707-24AD98ED7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ram Awada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am Awada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80880" y="24382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eram (24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80880" y="2666880"/>
            <a:ext cx="121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er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57200" y="28954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eram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905120" y="1447920"/>
            <a:ext cx="601956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82880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5238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82880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62000" y="53722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181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sb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617920" y="3429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60840" y="35053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7"/>
          <p:cNvSpPr/>
          <p:nvPr/>
        </p:nvSpPr>
        <p:spPr>
          <a:xfrm>
            <a:off x="76320" y="3618000"/>
            <a:ext cx="1676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Meram. Yo vivo en New York City. Tengo 14 años. Tengo uno hermano. Soy es joven, graciosa y activ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2"/>
          <p:cNvSpPr/>
          <p:nvPr/>
        </p:nvSpPr>
        <p:spPr>
          <a:xfrm>
            <a:off x="64764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4"/>
          <p:cNvSpPr/>
          <p:nvPr/>
        </p:nvSpPr>
        <p:spPr>
          <a:xfrm>
            <a:off x="236520" y="6099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6"/>
          <p:cNvSpPr/>
          <p:nvPr/>
        </p:nvSpPr>
        <p:spPr>
          <a:xfrm flipH="1">
            <a:off x="1249200" y="51307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b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4876920"/>
            <a:ext cx="3886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Lib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Hola! </a:t>
            </a: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¿L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o que está arrib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70200" y="3124080"/>
            <a:ext cx="3876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Manish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343434"/>
                </a:solidFill>
                <a:latin typeface="Arial"/>
              </a:rPr>
              <a:t>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Buenas tardes. ¿Quieres hacer algo este fin de semana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70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Misba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amig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7880" y="54864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Stev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noches mi amora!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Hablar conmigo por la mañan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6"/>
          <p:cNvSpPr/>
          <p:nvPr/>
        </p:nvSpPr>
        <p:spPr>
          <a:xfrm>
            <a:off x="1981080" y="182880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o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2"/>
          <p:cNvSpPr/>
          <p:nvPr/>
        </p:nvSpPr>
        <p:spPr>
          <a:xfrm>
            <a:off x="703440" y="6095880"/>
            <a:ext cx="49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photo-1.jpeg"/>
          <p:cNvPicPr/>
          <p:nvPr/>
        </p:nvPicPr>
        <p:blipFill>
          <a:blip r:embed="rId1"/>
          <a:stretch/>
        </p:blipFill>
        <p:spPr>
          <a:xfrm>
            <a:off x="712800" y="466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photo.jpeg"/>
          <p:cNvPicPr/>
          <p:nvPr/>
        </p:nvPicPr>
        <p:blipFill>
          <a:blip r:embed="rId2"/>
          <a:stretch/>
        </p:blipFill>
        <p:spPr>
          <a:xfrm>
            <a:off x="203040" y="4657680"/>
            <a:ext cx="422280" cy="460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8" descr=""/>
          <p:cNvPicPr/>
          <p:nvPr/>
        </p:nvPicPr>
        <p:blipFill>
          <a:blip r:embed="rId3"/>
          <a:stretch/>
        </p:blipFill>
        <p:spPr>
          <a:xfrm>
            <a:off x="2133720" y="2514600"/>
            <a:ext cx="512640" cy="52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0" descr="C:\Users\Unicorns are Cool\Downloads\behappy_dontworry on Instagram_files\profile_33995694_75sq_1352944363.jpg"/>
          <p:cNvPicPr/>
          <p:nvPr/>
        </p:nvPicPr>
        <p:blipFill>
          <a:blip r:embed="rId4"/>
          <a:stretch/>
        </p:blipFill>
        <p:spPr>
          <a:xfrm>
            <a:off x="380880" y="1371600"/>
            <a:ext cx="1067040" cy="1055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1" descr=""/>
          <p:cNvPicPr/>
          <p:nvPr/>
        </p:nvPicPr>
        <p:blipFill>
          <a:blip r:embed="rId5"/>
          <a:stretch/>
        </p:blipFill>
        <p:spPr>
          <a:xfrm>
            <a:off x="2151000" y="3124080"/>
            <a:ext cx="486000" cy="4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3" descr="C:\Users\Unicorns are Cool\Downloads\apessssss_ on Instagram_files\c2ca73f2359311e29b2522000a9f13d5_7.jpg"/>
          <p:cNvPicPr/>
          <p:nvPr/>
        </p:nvPicPr>
        <p:blipFill>
          <a:blip r:embed="rId6"/>
          <a:stretch/>
        </p:blipFill>
        <p:spPr>
          <a:xfrm>
            <a:off x="203040" y="5486400"/>
            <a:ext cx="476280" cy="58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4" descr="C:\Users\Unicorns are Cool\Downloads\_mermaidinspired on Instagram_files\profile_17452405_75sq_1354473962.jpg"/>
          <p:cNvPicPr/>
          <p:nvPr/>
        </p:nvPicPr>
        <p:blipFill>
          <a:blip r:embed="rId7"/>
          <a:stretch/>
        </p:blipFill>
        <p:spPr>
          <a:xfrm>
            <a:off x="1249200" y="4657680"/>
            <a:ext cx="462240" cy="44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5" descr=""/>
          <p:cNvPicPr/>
          <p:nvPr/>
        </p:nvPicPr>
        <p:blipFill>
          <a:blip r:embed="rId8"/>
          <a:stretch/>
        </p:blipFill>
        <p:spPr>
          <a:xfrm>
            <a:off x="2133720" y="4876920"/>
            <a:ext cx="463320" cy="45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8" descr="C:\Users\Unicorns are Cool\Downloads\xobanaaxo on Instagram_files\640e37a8286511e2a76e22000a9f1968_7.jpg"/>
          <p:cNvPicPr/>
          <p:nvPr/>
        </p:nvPicPr>
        <p:blipFill>
          <a:blip r:embed="rId9"/>
          <a:stretch/>
        </p:blipFill>
        <p:spPr>
          <a:xfrm>
            <a:off x="762120" y="5486400"/>
            <a:ext cx="371520" cy="59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532541_4387223202872_804143334_n.jpeg"/>
          <p:cNvPicPr/>
          <p:nvPr/>
        </p:nvPicPr>
        <p:blipFill>
          <a:blip r:embed="rId10"/>
          <a:stretch/>
        </p:blipFill>
        <p:spPr>
          <a:xfrm>
            <a:off x="1219320" y="5486400"/>
            <a:ext cx="457200" cy="623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1221840" y="6095880"/>
            <a:ext cx="49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8" descr="532541_4387223202872_804143334_n.jpeg"/>
          <p:cNvPicPr/>
          <p:nvPr/>
        </p:nvPicPr>
        <p:blipFill>
          <a:blip r:embed="rId11"/>
          <a:stretch/>
        </p:blipFill>
        <p:spPr>
          <a:xfrm>
            <a:off x="2133720" y="541008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7"/>
          <p:cNvSpPr/>
          <p:nvPr/>
        </p:nvSpPr>
        <p:spPr>
          <a:xfrm>
            <a:off x="3075120" y="3733920"/>
            <a:ext cx="358128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i! Debemos debería ir a patinar sobre hielo. Me voy con Albana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u debería veni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21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0" descr="C:\Users\Unicorns are Cool\Downloads\behappy_dontworry on Instagram_files\profile_33995694_75sq_1352944363.jpg"/>
          <p:cNvPicPr/>
          <p:nvPr/>
        </p:nvPicPr>
        <p:blipFill>
          <a:blip r:embed="rId12"/>
          <a:stretch/>
        </p:blipFill>
        <p:spPr>
          <a:xfrm>
            <a:off x="2617920" y="3733920"/>
            <a:ext cx="380880" cy="4572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7"/>
          <p:cNvSpPr/>
          <p:nvPr/>
        </p:nvSpPr>
        <p:spPr>
          <a:xfrm>
            <a:off x="3048120" y="4343400"/>
            <a:ext cx="3571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y a voy a pedir a mis padres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14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1" descr=""/>
          <p:cNvPicPr/>
          <p:nvPr/>
        </p:nvPicPr>
        <p:blipFill>
          <a:blip r:embed="rId13"/>
          <a:stretch/>
        </p:blipFill>
        <p:spPr>
          <a:xfrm>
            <a:off x="2590920" y="43434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1900080" y="844560"/>
            <a:ext cx="38912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Apr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Tengo que decirte algo a decir a te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4 minutes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1905120" y="1981080"/>
            <a:ext cx="39020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Albana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as días! ¿Quieres ir a patinar sobre hielo ho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7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480960" cy="51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9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380880" cy="591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eram Awada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2133720" y="1447920"/>
            <a:ext cx="3571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ene! Nosotros podemos reunirnos en estos moment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8 minutes ago   Octubre 22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0" descr="C:\Users\Unicorns are Cool\Downloads\behappy_dontworry on Instagram_files\profile_33995694_75sq_1352944363.jpg"/>
          <p:cNvPicPr/>
          <p:nvPr/>
        </p:nvPicPr>
        <p:blipFill>
          <a:blip r:embed="rId3"/>
          <a:stretch/>
        </p:blipFill>
        <p:spPr>
          <a:xfrm>
            <a:off x="1676520" y="1447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7"/>
          <p:cNvSpPr/>
          <p:nvPr/>
        </p:nvSpPr>
        <p:spPr>
          <a:xfrm>
            <a:off x="1905120" y="27432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Lib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343434"/>
                </a:solidFill>
                <a:latin typeface="Arial"/>
              </a:rPr>
              <a:t>¿Dónde estás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? Necesito hablar con usted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2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5" descr=""/>
          <p:cNvPicPr/>
          <p:nvPr/>
        </p:nvPicPr>
        <p:blipFill>
          <a:blip r:embed="rId4"/>
          <a:stretch/>
        </p:blipFill>
        <p:spPr>
          <a:xfrm>
            <a:off x="1295280" y="2744640"/>
            <a:ext cx="54000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5:00:01Z</dcterms:modified>
  <cp:revision>117</cp:revision>
  <dc:subject/>
  <dc:title>Profile</dc:title>
</cp:coreProperties>
</file>